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CC7-296F-413C-8C1E-762BF4C0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492-3846-41B2-8EF2-DF618E7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D3A-E750-47D8-AD53-69DB4A85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F5E-9110-49F5-B843-43CBA12A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5EC-0252-43B9-9E79-522AB384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F8C-4F08-4D36-A56F-1101B4E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DF6-AEF5-4AC7-918E-FBEACA4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184-99FF-43A1-9957-208DD119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2D4-1E8A-4864-A17E-787CC2F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F19-CAB5-4270-AF82-99D7F47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92C-831E-42A3-AEFC-ED03BE7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87D-D338-4CDE-B13B-B80EB69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0889-512C-4154-A796-433DDD76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3 Keď sa vôkol búria živly desiv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á iný ruže a ty tŕni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j na Božie sľub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nemá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d Božie dieťa šťastnejši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vôk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ia živly desi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avy keď dušu trápia tiesniv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ďaky znova prines obeť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ažké bremä keď ťa k zemi stláča sná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je ľudská pomoc má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u hľaď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dáš Bohu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ád každú sta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e ti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30:24Z</dcterms:modified>
  <cp:revision>21</cp:revision>
  <dc:subject/>
  <dc:title>Je veľký náš Pán, on slávy je Kráľ Nech do všetkých strán  spev vrúcnych znie chvál.</dc:title>
</cp:coreProperties>
</file>